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9985-00F6-44B8-9C6B-545237B70A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031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C93F-87D0-4F19-BE2A-55C494D8B3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Attrition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dual, natural reduction in membership or personnel, as through retirement, resignation, or death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A rubbing away or wearing down by friction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A gradual diminution in number or strength because of constant stres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62AC-76D2-43DC-94BB-1B95529480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031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CFAB-ABE4-461C-BA19-CBA59C7DA2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6519-FA81-43F0-88B5-17BE42A523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ohort is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roup of pers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h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hare comm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haracteristic or experience within a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fined tim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060B-B6FD-4C38-9D0C-6AEFAB6B8D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69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16360" y="937260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C2BC-9C8C-4202-8CAB-6E36295447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4BCB-8BD4-47A1-842E-DB71CB66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756-B369-4A62-AF44-97B49AFD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C19-5947-4BFB-9467-0CEDE503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8E3-83BB-45DF-9B37-8D68A2AF3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C4F2-8773-4769-B651-F87076D23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72BC-7B25-4C1E-839F-EEFA0702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031C-B2F8-4338-865F-5C42F96C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4952-DB65-4362-8ACD-BB70607C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2FCE-3A7C-4833-8196-D47F6C71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85B0-8FA3-4F0F-B22C-F441A9A5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FEF9-29E3-47D0-93CC-77F864B4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4D9-63E5-4FAF-AAA9-B29C5C0A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D8C9-4650-406E-8D25-4B9360B2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0A7D-E17B-4505-B4CB-0DFF495B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22A8-2AF4-435A-9E7A-086C9BCC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7BF8-6FF1-4105-A8AF-1D03BF56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E2C1-03AA-4B5A-B912-2C38028C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7EE-7043-4C28-BCB4-22CA37B8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B65A-2C44-4898-892C-F824F943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8A0-EB01-44CF-A5E6-A23032C7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357-3CBC-45E3-A98A-5C032FE9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1B3-D8F1-4B57-8598-33106231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A8E6-B336-4A70-89A6-84BD91A2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FD37-0323-440E-AC31-5EF05362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1e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6368-950A-4273-BBA3-D96F9C12A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1e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DE7D-F8BB-49CE-8201-ECBADCF357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ohort_(statistics)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3657600" y="0"/>
            <a:ext cx="5435640" cy="146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ce7"/>
                </a:solidFill>
                <a:latin typeface="Arial Rounded MT Bold"/>
                <a:ea typeface="Arial"/>
              </a:rPr>
              <a:t>CHP400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ce7"/>
                </a:solidFill>
                <a:latin typeface="Arial Rounded MT Bold"/>
                <a:ea typeface="Arial"/>
              </a:rPr>
              <a:t>Community Health Program - 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91800" y="3276720"/>
            <a:ext cx="3829320" cy="1434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Research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Methodolog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237120" y="1176840"/>
            <a:ext cx="4429800" cy="764280"/>
          </a:xfrm>
          <a:prstGeom prst="rect">
            <a:avLst/>
          </a:prstGeom>
          <a:noFill/>
          <a:ln w="9360">
            <a:solidFill>
              <a:srgbClr val="004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979640" y="2163600"/>
            <a:ext cx="684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Rounded MT Bold"/>
              </a:rPr>
              <a:t>Observational / Analytical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6320" y="4802760"/>
            <a:ext cx="3860640" cy="1389240"/>
          </a:xfrm>
          <a:prstGeom prst="rect">
            <a:avLst/>
          </a:prstGeom>
          <a:solidFill>
            <a:srgbClr val="1a4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 Rounded MT Bold"/>
              </a:rPr>
              <a:t>Coh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Rounded MT Bold"/>
              </a:rPr>
              <a:t>Stu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8"/>
          <p:cNvSpPr/>
          <p:nvPr/>
        </p:nvSpPr>
        <p:spPr>
          <a:xfrm>
            <a:off x="4791240" y="4313160"/>
            <a:ext cx="3733560" cy="1604880"/>
          </a:xfrm>
          <a:prstGeom prst="ellipse">
            <a:avLst/>
          </a:prstGeom>
          <a:solidFill>
            <a:srgbClr val="9fabd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7153200" y="4622760"/>
            <a:ext cx="1293840" cy="99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11"/>
          <p:cNvSpPr/>
          <p:nvPr/>
        </p:nvSpPr>
        <p:spPr>
          <a:xfrm>
            <a:off x="5400720" y="5116680"/>
            <a:ext cx="2666880" cy="80136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00440" y="5960880"/>
            <a:ext cx="23036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Present: Diseas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Past: 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5159160" y="462276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1e45"/>
                </a:solidFill>
                <a:latin typeface="Arial Rounded MT Bold"/>
              </a:rPr>
              <a:t>Cross -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7329240" y="4756320"/>
            <a:ext cx="10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Coh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5755320" y="5289480"/>
            <a:ext cx="18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Case -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4305240" y="3379680"/>
            <a:ext cx="14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Present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Disease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xposu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6315120" y="353376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Present: Exposu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 Future: 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Circular Arrow 18"/>
          <p:cNvSpPr/>
          <p:nvPr/>
        </p:nvSpPr>
        <p:spPr>
          <a:xfrm rot="13228800">
            <a:off x="4433400" y="4254480"/>
            <a:ext cx="1044720" cy="900000"/>
          </a:xfrm>
          <a:custGeom>
            <a:avLst/>
            <a:gdLst>
              <a:gd name="textAreaLeft" fmla="*/ 192600 w 1044720"/>
              <a:gd name="textAreaRight" fmla="*/ 852120 w 1044720"/>
              <a:gd name="textAreaTop" fmla="*/ 171360 h 900000"/>
              <a:gd name="textAreaBottom" fmla="*/ 728640 h 900000"/>
            </a:gdLst>
            <a:ahLst/>
            <a:rect l="textAreaLeft" t="textAreaTop" r="textAreaRight" b="textAreaBottom"/>
            <a:pathLst>
              <a:path w="1044575" h="900113">
                <a:moveTo>
                  <a:pt x="56257" y="450056"/>
                </a:moveTo>
                <a:lnTo>
                  <a:pt x="56257" y="450056"/>
                </a:lnTo>
                <a:arcTo wR="466030" hR="393799" stAng="-10799993" swAng="9808785"/>
                <a:lnTo>
                  <a:pt x="1012750" y="319634"/>
                </a:lnTo>
                <a:lnTo>
                  <a:pt x="932061" y="450057"/>
                </a:lnTo>
                <a:lnTo>
                  <a:pt x="787722" y="319634"/>
                </a:lnTo>
                <a:lnTo>
                  <a:pt x="835506" y="319634"/>
                </a:lnTo>
                <a:lnTo>
                  <a:pt x="835506" y="319634"/>
                </a:lnTo>
                <a:arcTo wR="353516" hR="281285" stAng="-1356388" swAng="-9443612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ircular Arrow 19"/>
          <p:cNvSpPr/>
          <p:nvPr/>
        </p:nvSpPr>
        <p:spPr>
          <a:xfrm flipV="1" rot="16939200">
            <a:off x="7754400" y="4401360"/>
            <a:ext cx="1152360" cy="755640"/>
          </a:xfrm>
          <a:custGeom>
            <a:avLst/>
            <a:gdLst>
              <a:gd name="textAreaLeft" fmla="*/ 201960 w 1152360"/>
              <a:gd name="textAreaRight" fmla="*/ 950400 w 1152360"/>
              <a:gd name="textAreaTop" fmla="*/ 144000 h 755640"/>
              <a:gd name="textAreaBottom" fmla="*/ 611640 h 755640"/>
            </a:gdLst>
            <a:ahLst/>
            <a:rect l="textAreaLeft" t="textAreaTop" r="textAreaRight" b="textAreaBottom"/>
            <a:pathLst>
              <a:path w="1152525" h="755650">
                <a:moveTo>
                  <a:pt x="47228" y="377824"/>
                </a:moveTo>
                <a:lnTo>
                  <a:pt x="47228" y="377824"/>
                </a:lnTo>
                <a:arcTo wR="529034" hR="330597" stAng="-10799994" swAng="9795409"/>
                <a:lnTo>
                  <a:pt x="1086277" y="234424"/>
                </a:lnTo>
                <a:lnTo>
                  <a:pt x="1058069" y="377826"/>
                </a:lnTo>
                <a:lnTo>
                  <a:pt x="897364" y="234424"/>
                </a:lnTo>
                <a:lnTo>
                  <a:pt x="921533" y="234424"/>
                </a:lnTo>
                <a:lnTo>
                  <a:pt x="921533" y="234424"/>
                </a:lnTo>
                <a:arcTo wR="434578" hR="236141" stAng="-1353259" swAng="-9446741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Circular Arrow 20"/>
          <p:cNvSpPr/>
          <p:nvPr/>
        </p:nvSpPr>
        <p:spPr>
          <a:xfrm flipV="1" rot="3322800">
            <a:off x="5605920" y="5744160"/>
            <a:ext cx="1044720" cy="677880"/>
          </a:xfrm>
          <a:custGeom>
            <a:avLst/>
            <a:gdLst>
              <a:gd name="textAreaLeft" fmla="*/ 182880 w 1044720"/>
              <a:gd name="textAreaRight" fmla="*/ 861840 w 1044720"/>
              <a:gd name="textAreaTop" fmla="*/ 129240 h 677880"/>
              <a:gd name="textAreaBottom" fmla="*/ 548640 h 677880"/>
            </a:gdLst>
            <a:ahLst/>
            <a:rect l="textAreaLeft" t="textAreaTop" r="textAreaRight" b="textAreaBottom"/>
            <a:pathLst>
              <a:path w="1044575" h="677862">
                <a:moveTo>
                  <a:pt x="42366" y="338930"/>
                </a:moveTo>
                <a:lnTo>
                  <a:pt x="42366" y="338930"/>
                </a:lnTo>
                <a:arcTo wR="479921" hR="296565" stAng="-10799993" swAng="9795364"/>
                <a:lnTo>
                  <a:pt x="983214" y="209114"/>
                </a:lnTo>
                <a:lnTo>
                  <a:pt x="959842" y="338932"/>
                </a:lnTo>
                <a:lnTo>
                  <a:pt x="813749" y="209114"/>
                </a:lnTo>
                <a:lnTo>
                  <a:pt x="834571" y="209114"/>
                </a:lnTo>
                <a:lnTo>
                  <a:pt x="834571" y="209114"/>
                </a:lnTo>
                <a:arcTo wR="395188" hR="211832" stAng="-1354364" swAng="-9445627"/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171680" y="3362400"/>
            <a:ext cx="4895640" cy="34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b1e45"/>
                </a:solidFill>
                <a:latin typeface="Arial"/>
              </a:rPr>
              <a:t>nbmmb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ubtitle 16"/>
          <p:cNvSpPr/>
          <p:nvPr/>
        </p:nvSpPr>
        <p:spPr>
          <a:xfrm>
            <a:off x="4172040" y="2921040"/>
            <a:ext cx="4895640" cy="43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ime  is  K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ight Arrow 6"/>
          <p:cNvSpPr/>
          <p:nvPr/>
        </p:nvSpPr>
        <p:spPr>
          <a:xfrm>
            <a:off x="1657440" y="2362320"/>
            <a:ext cx="6191280" cy="215640"/>
          </a:xfrm>
          <a:prstGeom prst="rightArrow">
            <a:avLst>
              <a:gd name="adj1" fmla="val 28102"/>
              <a:gd name="adj2" fmla="val 126941"/>
            </a:avLst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ight Arrow 8"/>
          <p:cNvSpPr/>
          <p:nvPr/>
        </p:nvSpPr>
        <p:spPr>
          <a:xfrm rot="10800000">
            <a:off x="3279600" y="2785680"/>
            <a:ext cx="2592720" cy="144360"/>
          </a:xfrm>
          <a:prstGeom prst="rightArrow">
            <a:avLst>
              <a:gd name="adj1" fmla="val 28102"/>
              <a:gd name="adj2" fmla="val 126469"/>
            </a:avLst>
          </a:prstGeom>
          <a:solidFill>
            <a:srgbClr val="ff33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ight Arrow 9"/>
          <p:cNvSpPr/>
          <p:nvPr/>
        </p:nvSpPr>
        <p:spPr>
          <a:xfrm rot="10800000">
            <a:off x="3281040" y="3331800"/>
            <a:ext cx="2592360" cy="142920"/>
          </a:xfrm>
          <a:prstGeom prst="rightArrow">
            <a:avLst>
              <a:gd name="adj1" fmla="val 28102"/>
              <a:gd name="adj2" fmla="val 127725"/>
            </a:avLst>
          </a:prstGeom>
          <a:solidFill>
            <a:srgbClr val="ff33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5867280" y="2612520"/>
            <a:ext cx="768960" cy="459720"/>
          </a:xfrm>
          <a:prstGeom prst="rect">
            <a:avLst/>
          </a:prstGeom>
          <a:solidFill>
            <a:srgbClr val="f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5926320" y="3145680"/>
            <a:ext cx="65016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852120" y="229716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5105520" y="1981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TCOME/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1908360" y="198108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ight Arrow 21"/>
          <p:cNvSpPr/>
          <p:nvPr/>
        </p:nvSpPr>
        <p:spPr>
          <a:xfrm>
            <a:off x="3279600" y="5435640"/>
            <a:ext cx="2592720" cy="144360"/>
          </a:xfrm>
          <a:prstGeom prst="rightArrow">
            <a:avLst>
              <a:gd name="adj1" fmla="val 28102"/>
              <a:gd name="adj2" fmla="val 126469"/>
            </a:avLst>
          </a:prstGeom>
          <a:solidFill>
            <a:srgbClr val="ff33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ight Arrow 22"/>
          <p:cNvSpPr/>
          <p:nvPr/>
        </p:nvSpPr>
        <p:spPr>
          <a:xfrm>
            <a:off x="3281400" y="5981760"/>
            <a:ext cx="2592360" cy="144360"/>
          </a:xfrm>
          <a:prstGeom prst="rightArrow">
            <a:avLst>
              <a:gd name="adj1" fmla="val 28102"/>
              <a:gd name="adj2" fmla="val 126451"/>
            </a:avLst>
          </a:prstGeom>
          <a:solidFill>
            <a:srgbClr val="ff33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2520720" y="5309640"/>
            <a:ext cx="768960" cy="459720"/>
          </a:xfrm>
          <a:prstGeom prst="rect">
            <a:avLst/>
          </a:prstGeom>
          <a:solidFill>
            <a:srgbClr val="f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2579760" y="5842800"/>
            <a:ext cx="65016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6028920" y="5821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6053400" y="5275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245520" y="2854440"/>
            <a:ext cx="220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E-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2904840" y="3170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2929320" y="2625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20" y="5451480"/>
            <a:ext cx="248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HORT STUDIES</a:t>
            </a:r>
            <a:br>
              <a:rPr sz="2000"/>
            </a:br>
            <a:r>
              <a:rPr b="1" lang="en-US" sz="2000" spc="-1" strike="noStrike" u="sng">
                <a:solidFill>
                  <a:srgbClr val="00ff00"/>
                </a:solidFill>
                <a:uFillTx/>
                <a:latin typeface="Arial"/>
              </a:rPr>
              <a:t>CLINICAL T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Straight Connector 3"/>
          <p:cNvSpPr/>
          <p:nvPr/>
        </p:nvSpPr>
        <p:spPr>
          <a:xfrm>
            <a:off x="0" y="40384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ight Arrow 35"/>
          <p:cNvSpPr/>
          <p:nvPr/>
        </p:nvSpPr>
        <p:spPr>
          <a:xfrm>
            <a:off x="1581120" y="4770360"/>
            <a:ext cx="6191280" cy="216000"/>
          </a:xfrm>
          <a:prstGeom prst="rightArrow">
            <a:avLst>
              <a:gd name="adj1" fmla="val 28102"/>
              <a:gd name="adj2" fmla="val 126729"/>
            </a:avLst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6"/>
          <p:cNvSpPr/>
          <p:nvPr/>
        </p:nvSpPr>
        <p:spPr>
          <a:xfrm>
            <a:off x="776160" y="470520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37"/>
          <p:cNvSpPr/>
          <p:nvPr/>
        </p:nvSpPr>
        <p:spPr>
          <a:xfrm>
            <a:off x="5029200" y="4389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TCOME/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38"/>
          <p:cNvSpPr/>
          <p:nvPr/>
        </p:nvSpPr>
        <p:spPr>
          <a:xfrm>
            <a:off x="1832400" y="438948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20"/>
          <p:cNvSpPr/>
          <p:nvPr/>
        </p:nvSpPr>
        <p:spPr>
          <a:xfrm rot="5400000">
            <a:off x="5962680" y="1627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0"/>
          <p:cNvSpPr/>
          <p:nvPr/>
        </p:nvSpPr>
        <p:spPr>
          <a:xfrm rot="5400000">
            <a:off x="2575440" y="41421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1300320" y="190512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IONS:  ?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066680" y="2971800"/>
            <a:ext cx="78487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there is good evidence of exposure and diseas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exposure is rare but incidence of disease is higher among expo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follow-up is easy, cohort is st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hen ample funds are availab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3320"/>
            <a:ext cx="8229600" cy="4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Elements of cohort study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457200" y="3246480"/>
            <a:ext cx="82296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ion of study su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btaining data on exposur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lection of comparison gro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llow 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77800" y="1893600"/>
            <a:ext cx="50752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study su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484200" y="236232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le population in a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epresentative s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Exposure groups of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pation/professional group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Radiologists exposure to X-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457200" y="2708280"/>
            <a:ext cx="8229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onal interviews / mailed questionn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s of recor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e of drug, radiation, type of surgery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examination or special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od pressure, serum choleste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1477800" y="1893960"/>
            <a:ext cx="5075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ing data on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457200" y="2708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vironmental 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obtaining the data of exposure we can classify cohorts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sed and non exposed an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degree exposure we can sub classify coh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1477800" y="1893960"/>
            <a:ext cx="5075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ing data on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3"/>
          <p:cNvSpPr/>
          <p:nvPr/>
        </p:nvSpPr>
        <p:spPr>
          <a:xfrm>
            <a:off x="457200" y="251460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y one cohort involved in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 classified and internal comparison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one cohort in the study for the purpose of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Cohort of radiologist compared with ophthalmolog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3880" y="1724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on of comparison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3"/>
          <p:cNvSpPr/>
          <p:nvPr/>
        </p:nvSpPr>
        <p:spPr>
          <a:xfrm>
            <a:off x="457200" y="2484360"/>
            <a:ext cx="822960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ison with general population 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o comparison group is available we can compare the rates of study cohort with general popul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cer rate of uranium miners with cancer in general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880" y="1724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ion of comparison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457200" y="2560680"/>
            <a:ext cx="82296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obtain data about outcome to be determined (morbidity or dea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led questionnaire, telephone calls, personal inter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medical exa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ing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666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illance of death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1523880" y="17240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8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457200" y="2637000"/>
            <a:ext cx="82296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loss to follow up is inevitable due to death, change of address, migration, change of occupatio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Follow up is the most critical part of th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1523880" y="172404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520" y="797040"/>
            <a:ext cx="259092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Rounded MT Bold"/>
              </a:rPr>
              <a:t>Conten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Defini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haracteristics and ty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Advantages and 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457200" y="1752480"/>
            <a:ext cx="4838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llow-up Techniques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457200" y="2556000"/>
            <a:ext cx="830592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Periodical medical examinations and mailed questionnai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Direct personal interviews or  examin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Videoconference, neighbors, friends and rela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457200" y="1752480"/>
            <a:ext cx="4838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llow-up Techniques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457200" y="2556000"/>
            <a:ext cx="845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4. Lost persons can be traced through letters,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their relatives or frien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5. Migrated cohort subjects can also be traced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through travel and immigration author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6. Dead persons: local or regional Mortality 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Registers or Death  Certifica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457200" y="1752480"/>
            <a:ext cx="58672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Problems during Follow-up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533520" y="25909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Follow-up of a large grou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Limited resourc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ime constra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aucity of trained perso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ttr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3"/>
          <p:cNvSpPr/>
          <p:nvPr/>
        </p:nvSpPr>
        <p:spPr>
          <a:xfrm>
            <a:off x="457200" y="1752480"/>
            <a:ext cx="4191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ttrition Redu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457200" y="2895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btaining an informed consen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Recording commitment to continue and cooperate in the stud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racing LOST subje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onsidering Information of lost subjects at the time of analy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Keeping non-response at a low level to improve the valid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3"/>
          <p:cNvSpPr/>
          <p:nvPr/>
        </p:nvSpPr>
        <p:spPr>
          <a:xfrm>
            <a:off x="457200" y="2895480"/>
            <a:ext cx="82296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incidence rates among exposed and non exposed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on of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1523880" y="1814400"/>
            <a:ext cx="1944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4"/>
          <p:cNvSpPr/>
          <p:nvPr/>
        </p:nvSpPr>
        <p:spPr>
          <a:xfrm>
            <a:off x="4961880" y="3587760"/>
            <a:ext cx="40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5"/>
          <p:cNvSpPr/>
          <p:nvPr/>
        </p:nvSpPr>
        <p:spPr>
          <a:xfrm>
            <a:off x="3726360" y="3587760"/>
            <a:ext cx="355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6"/>
          <p:cNvSpPr/>
          <p:nvPr/>
        </p:nvSpPr>
        <p:spPr>
          <a:xfrm>
            <a:off x="4921560" y="3035160"/>
            <a:ext cx="408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7"/>
          <p:cNvSpPr/>
          <p:nvPr/>
        </p:nvSpPr>
        <p:spPr>
          <a:xfrm>
            <a:off x="3668040" y="3035160"/>
            <a:ext cx="39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8"/>
          <p:cNvSpPr/>
          <p:nvPr/>
        </p:nvSpPr>
        <p:spPr>
          <a:xfrm>
            <a:off x="3481920" y="2502000"/>
            <a:ext cx="72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19"/>
          <p:cNvSpPr/>
          <p:nvPr/>
        </p:nvSpPr>
        <p:spPr>
          <a:xfrm>
            <a:off x="4835520" y="2502000"/>
            <a:ext cx="59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3504240" y="2071800"/>
            <a:ext cx="2247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Times New Roman"/>
              </a:rPr>
              <a:t>Disease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2262600" y="3035160"/>
            <a:ext cx="72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2397240" y="3600360"/>
            <a:ext cx="59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456120" y="3092400"/>
            <a:ext cx="16282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Times New Roman"/>
              </a:rPr>
              <a:t>Exposure</a:t>
            </a:r>
            <a:r>
              <a:rPr b="1" lang="en-US" sz="2800" spc="-1" strike="noStrike">
                <a:solidFill>
                  <a:srgbClr val="ff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Times New Roman"/>
              </a:rPr>
              <a:t>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5696640" y="3032280"/>
            <a:ext cx="1105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a+b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26"/>
          <p:cNvSpPr/>
          <p:nvPr/>
        </p:nvSpPr>
        <p:spPr>
          <a:xfrm>
            <a:off x="4731840" y="4114800"/>
            <a:ext cx="83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b+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27"/>
          <p:cNvSpPr/>
          <p:nvPr/>
        </p:nvSpPr>
        <p:spPr>
          <a:xfrm>
            <a:off x="3299040" y="4114800"/>
            <a:ext cx="106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a+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29"/>
          <p:cNvSpPr/>
          <p:nvPr/>
        </p:nvSpPr>
        <p:spPr>
          <a:xfrm>
            <a:off x="5763240" y="2502000"/>
            <a:ext cx="91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0"/>
          <p:cNvSpPr/>
          <p:nvPr/>
        </p:nvSpPr>
        <p:spPr>
          <a:xfrm>
            <a:off x="6172200" y="5702400"/>
            <a:ext cx="533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35"/>
          <p:cNvSpPr/>
          <p:nvPr/>
        </p:nvSpPr>
        <p:spPr>
          <a:xfrm>
            <a:off x="6705720" y="2959200"/>
            <a:ext cx="12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bcff"/>
                </a:solidFill>
                <a:latin typeface="Arial"/>
              </a:rPr>
              <a:t>Study coh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36"/>
          <p:cNvSpPr/>
          <p:nvPr/>
        </p:nvSpPr>
        <p:spPr>
          <a:xfrm>
            <a:off x="6858000" y="35449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fbcff"/>
                </a:solidFill>
                <a:latin typeface="Arial"/>
              </a:rPr>
              <a:t>Comparison  coh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5637600" y="3581280"/>
            <a:ext cx="98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c+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36"/>
          <p:cNvSpPr/>
          <p:nvPr/>
        </p:nvSpPr>
        <p:spPr>
          <a:xfrm>
            <a:off x="6026040" y="4114800"/>
            <a:ext cx="473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Black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12"/>
          <p:cNvSpPr/>
          <p:nvPr/>
        </p:nvSpPr>
        <p:spPr>
          <a:xfrm>
            <a:off x="5715000" y="2514600"/>
            <a:ext cx="118728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4527720" y="2514600"/>
            <a:ext cx="118728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12"/>
          <p:cNvSpPr/>
          <p:nvPr/>
        </p:nvSpPr>
        <p:spPr>
          <a:xfrm>
            <a:off x="3352680" y="2514600"/>
            <a:ext cx="118764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12"/>
          <p:cNvSpPr/>
          <p:nvPr/>
        </p:nvSpPr>
        <p:spPr>
          <a:xfrm>
            <a:off x="5715000" y="3041640"/>
            <a:ext cx="118728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4527720" y="3041640"/>
            <a:ext cx="118728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3352680" y="3041640"/>
            <a:ext cx="118764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5715000" y="3575160"/>
            <a:ext cx="118728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4527720" y="3575160"/>
            <a:ext cx="118728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12"/>
          <p:cNvSpPr/>
          <p:nvPr/>
        </p:nvSpPr>
        <p:spPr>
          <a:xfrm>
            <a:off x="3352680" y="3575160"/>
            <a:ext cx="118764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2"/>
          <p:cNvSpPr/>
          <p:nvPr/>
        </p:nvSpPr>
        <p:spPr>
          <a:xfrm>
            <a:off x="5715000" y="4108320"/>
            <a:ext cx="1187280" cy="540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4527720" y="4108320"/>
            <a:ext cx="1187280" cy="540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2"/>
          <p:cNvSpPr/>
          <p:nvPr/>
        </p:nvSpPr>
        <p:spPr>
          <a:xfrm>
            <a:off x="3352680" y="4108320"/>
            <a:ext cx="1187640" cy="540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2"/>
          <p:cNvSpPr/>
          <p:nvPr/>
        </p:nvSpPr>
        <p:spPr>
          <a:xfrm>
            <a:off x="2165400" y="3041640"/>
            <a:ext cx="118728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2"/>
          <p:cNvSpPr/>
          <p:nvPr/>
        </p:nvSpPr>
        <p:spPr>
          <a:xfrm>
            <a:off x="2165400" y="3575160"/>
            <a:ext cx="1187280" cy="5396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29"/>
          <p:cNvSpPr/>
          <p:nvPr/>
        </p:nvSpPr>
        <p:spPr>
          <a:xfrm>
            <a:off x="2213640" y="4095720"/>
            <a:ext cx="913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2"/>
          <p:cNvSpPr/>
          <p:nvPr/>
        </p:nvSpPr>
        <p:spPr>
          <a:xfrm>
            <a:off x="2165400" y="4108320"/>
            <a:ext cx="1187280" cy="540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61"/>
          <p:cNvSpPr/>
          <p:nvPr/>
        </p:nvSpPr>
        <p:spPr>
          <a:xfrm>
            <a:off x="3191760" y="5038560"/>
            <a:ext cx="46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among expos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2"/>
          <p:cNvSpPr/>
          <p:nvPr/>
        </p:nvSpPr>
        <p:spPr>
          <a:xfrm>
            <a:off x="7966440" y="48211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63"/>
          <p:cNvSpPr/>
          <p:nvPr/>
        </p:nvSpPr>
        <p:spPr>
          <a:xfrm>
            <a:off x="7820640" y="519120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+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Straight Connector 64"/>
          <p:cNvSpPr/>
          <p:nvPr/>
        </p:nvSpPr>
        <p:spPr>
          <a:xfrm>
            <a:off x="7785000" y="526716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1920" y="5313240"/>
            <a:ext cx="1908360" cy="8589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nciden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66"/>
          <p:cNvSpPr/>
          <p:nvPr/>
        </p:nvSpPr>
        <p:spPr>
          <a:xfrm>
            <a:off x="2769840" y="5800680"/>
            <a:ext cx="50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idence among unexposed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7"/>
          <p:cNvSpPr/>
          <p:nvPr/>
        </p:nvSpPr>
        <p:spPr>
          <a:xfrm>
            <a:off x="7889040" y="5583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68"/>
          <p:cNvSpPr/>
          <p:nvPr/>
        </p:nvSpPr>
        <p:spPr>
          <a:xfrm>
            <a:off x="7743960" y="595296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+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traight Connector 69"/>
          <p:cNvSpPr/>
          <p:nvPr/>
        </p:nvSpPr>
        <p:spPr>
          <a:xfrm>
            <a:off x="7709040" y="602928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1523880" y="1814400"/>
            <a:ext cx="1944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52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71320" y="2163600"/>
            <a:ext cx="4319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on of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1523880" y="1814400"/>
            <a:ext cx="1944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1465200" y="2590920"/>
            <a:ext cx="31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tive Risk (R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2106360" y="3429000"/>
            <a:ext cx="51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disease among exp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1786680" y="3886200"/>
            <a:ext cx="58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disease among non-expo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60960" y="37288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9"/>
          <p:cNvSpPr/>
          <p:nvPr/>
        </p:nvSpPr>
        <p:spPr>
          <a:xfrm>
            <a:off x="1305720" y="37288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1711080" y="3505320"/>
            <a:ext cx="592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1835640" y="480060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/a+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1834920" y="5246640"/>
            <a:ext cx="10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/c+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4"/>
          <p:cNvSpPr/>
          <p:nvPr/>
        </p:nvSpPr>
        <p:spPr>
          <a:xfrm>
            <a:off x="1612800" y="494820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8"/>
          <p:cNvSpPr/>
          <p:nvPr/>
        </p:nvSpPr>
        <p:spPr>
          <a:xfrm>
            <a:off x="660960" y="51004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9"/>
          <p:cNvSpPr/>
          <p:nvPr/>
        </p:nvSpPr>
        <p:spPr>
          <a:xfrm>
            <a:off x="1305720" y="51004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18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71320" y="2163600"/>
            <a:ext cx="4319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imation of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1523880" y="1814400"/>
            <a:ext cx="19447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"/>
          <p:cNvSpPr/>
          <p:nvPr/>
        </p:nvSpPr>
        <p:spPr>
          <a:xfrm>
            <a:off x="2590920" y="3697560"/>
            <a:ext cx="2268360" cy="108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ease among expo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0"/>
          <p:cNvSpPr/>
          <p:nvPr/>
        </p:nvSpPr>
        <p:spPr>
          <a:xfrm>
            <a:off x="5638680" y="3711600"/>
            <a:ext cx="2268720" cy="108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disease among non expo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2"/>
          <p:cNvSpPr/>
          <p:nvPr/>
        </p:nvSpPr>
        <p:spPr>
          <a:xfrm>
            <a:off x="2524680" y="5594400"/>
            <a:ext cx="2029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/a+b – c/c+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3124440" y="6127920"/>
            <a:ext cx="95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/a+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1295280" y="457200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6"/>
          <p:cNvSpPr/>
          <p:nvPr/>
        </p:nvSpPr>
        <p:spPr>
          <a:xfrm>
            <a:off x="1299600" y="5823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11"/>
          <p:cNvSpPr/>
          <p:nvPr/>
        </p:nvSpPr>
        <p:spPr>
          <a:xfrm>
            <a:off x="1905120" y="457344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1811160" y="57913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3"/>
          <p:cNvSpPr/>
          <p:nvPr/>
        </p:nvSpPr>
        <p:spPr>
          <a:xfrm>
            <a:off x="2468880" y="4948200"/>
            <a:ext cx="52952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idence of disease among expo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14"/>
          <p:cNvSpPr/>
          <p:nvPr/>
        </p:nvSpPr>
        <p:spPr>
          <a:xfrm>
            <a:off x="2377800" y="4464000"/>
            <a:ext cx="54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15"/>
          <p:cNvSpPr/>
          <p:nvPr/>
        </p:nvSpPr>
        <p:spPr>
          <a:xfrm>
            <a:off x="2311920" y="566748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Minus 16"/>
          <p:cNvSpPr/>
          <p:nvPr/>
        </p:nvSpPr>
        <p:spPr>
          <a:xfrm>
            <a:off x="4944960" y="3886200"/>
            <a:ext cx="541440" cy="863640"/>
          </a:xfrm>
          <a:custGeom>
            <a:avLst/>
            <a:gdLst>
              <a:gd name="textAreaLeft" fmla="*/ 71640 w 541440"/>
              <a:gd name="textAreaRight" fmla="*/ 469800 w 541440"/>
              <a:gd name="textAreaTop" fmla="*/ 404640 h 863640"/>
              <a:gd name="textAreaBottom" fmla="*/ 459000 h 863640"/>
            </a:gdLst>
            <a:ahLst/>
            <a:rect l="textAreaLeft" t="textAreaTop" r="textAreaRight" b="textAreaBottom"/>
            <a:pathLst>
              <a:path w="541337" h="863600">
                <a:moveTo>
                  <a:pt x="71754" y="404692"/>
                </a:moveTo>
                <a:lnTo>
                  <a:pt x="469583" y="404692"/>
                </a:lnTo>
                <a:lnTo>
                  <a:pt x="469583" y="458908"/>
                </a:lnTo>
                <a:lnTo>
                  <a:pt x="71754" y="45890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17"/>
          <p:cNvSpPr/>
          <p:nvPr/>
        </p:nvSpPr>
        <p:spPr>
          <a:xfrm>
            <a:off x="1467360" y="2666880"/>
            <a:ext cx="3701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able Risk (AR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0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1295280" y="1981080"/>
          <a:ext cx="6477120" cy="4114800"/>
        </p:xfrm>
        <a:graphic>
          <a:graphicData uri="http://schemas.openxmlformats.org/drawingml/2006/table">
            <a:tbl>
              <a:tblPr/>
              <a:tblGrid>
                <a:gridCol w="1619280"/>
                <a:gridCol w="1619280"/>
                <a:gridCol w="1619280"/>
                <a:gridCol w="1619280"/>
              </a:tblGrid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Smo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1e45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Lung canc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1e45"/>
                    </a:solidFill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Smok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Y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7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69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7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N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299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3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7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992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2060"/>
                          </a:solidFill>
                          <a:latin typeface="Arial Rounded MT Bold"/>
                          <a:ea typeface="Times New Roman"/>
                        </a:rPr>
                        <a:t>10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418" name="Text Box 130"/>
          <p:cNvSpPr/>
          <p:nvPr/>
        </p:nvSpPr>
        <p:spPr>
          <a:xfrm>
            <a:off x="990720" y="6095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e RR and AR for abov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457200" y="2408400"/>
            <a:ext cx="82296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idence of lung cancer among smo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0/7000  = 10 per 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idence of lung cancer among non-smo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/3000 = 1 per 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R = 10 / 1 =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lung cancer is 10 times more common among smokers than non smok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 = 10 – 1 / 10 X 1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90 %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90% of the cases of lung cancer among smokers are attributed to their habit of smok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3182760" y="967680"/>
            <a:ext cx="2882880" cy="520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5983920" y="1738440"/>
            <a:ext cx="2392200" cy="520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Experi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420200" y="1784520"/>
            <a:ext cx="2517120" cy="5205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Observa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554880" y="2845800"/>
            <a:ext cx="1979640" cy="82548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peri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6553080" y="4515480"/>
            <a:ext cx="2016360" cy="11912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Hu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nical 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486960" y="3065760"/>
            <a:ext cx="1780920" cy="520560"/>
          </a:xfrm>
          <a:prstGeom prst="rect">
            <a:avLst/>
          </a:prstGeom>
          <a:solidFill>
            <a:srgbClr val="1a4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naly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488040" y="3890880"/>
            <a:ext cx="1142280" cy="825480"/>
          </a:xfrm>
          <a:prstGeom prst="rect">
            <a:avLst/>
          </a:prstGeom>
          <a:solidFill>
            <a:srgbClr val="1a4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C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528480" y="2978280"/>
            <a:ext cx="2035440" cy="520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Descrip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919080" y="3882600"/>
            <a:ext cx="184788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Case re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882000" y="4466880"/>
            <a:ext cx="178380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Case se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896040" y="5076360"/>
            <a:ext cx="208260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Cross s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910800" y="5685840"/>
            <a:ext cx="160704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Ecolog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3486240" y="5190120"/>
            <a:ext cx="1102680" cy="459720"/>
          </a:xfrm>
          <a:prstGeom prst="rect">
            <a:avLst/>
          </a:prstGeom>
          <a:solidFill>
            <a:srgbClr val="1a4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 Rounded MT Bold"/>
              </a:rPr>
              <a:t>Coh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4859280" y="1552680"/>
            <a:ext cx="865080" cy="50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 flipH="1">
            <a:off x="4038480" y="1625760"/>
            <a:ext cx="648000" cy="43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6012000" y="2246400"/>
            <a:ext cx="7920" cy="2863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6019920" y="510552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6012000" y="3254400"/>
            <a:ext cx="431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4"/>
          <p:cNvSpPr/>
          <p:nvPr/>
        </p:nvSpPr>
        <p:spPr>
          <a:xfrm>
            <a:off x="2878200" y="2390760"/>
            <a:ext cx="865080" cy="504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23"/>
          <p:cNvSpPr/>
          <p:nvPr/>
        </p:nvSpPr>
        <p:spPr>
          <a:xfrm flipH="1">
            <a:off x="2057040" y="2463840"/>
            <a:ext cx="647640" cy="431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5257800" y="3505320"/>
            <a:ext cx="7920" cy="19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22"/>
          <p:cNvSpPr/>
          <p:nvPr/>
        </p:nvSpPr>
        <p:spPr>
          <a:xfrm flipH="1">
            <a:off x="4648320" y="4267080"/>
            <a:ext cx="6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H="1">
            <a:off x="4648320" y="5410080"/>
            <a:ext cx="612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7"/>
          <p:cNvSpPr/>
          <p:nvPr/>
        </p:nvSpPr>
        <p:spPr>
          <a:xfrm>
            <a:off x="457200" y="3429000"/>
            <a:ext cx="7920" cy="2519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8"/>
          <p:cNvSpPr/>
          <p:nvPr/>
        </p:nvSpPr>
        <p:spPr>
          <a:xfrm>
            <a:off x="477720" y="411480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8"/>
          <p:cNvSpPr/>
          <p:nvPr/>
        </p:nvSpPr>
        <p:spPr>
          <a:xfrm>
            <a:off x="457200" y="472428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8"/>
          <p:cNvSpPr/>
          <p:nvPr/>
        </p:nvSpPr>
        <p:spPr>
          <a:xfrm>
            <a:off x="457200" y="525780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457200" y="5943600"/>
            <a:ext cx="36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34"/>
          <p:cNvSpPr/>
          <p:nvPr/>
        </p:nvSpPr>
        <p:spPr>
          <a:xfrm>
            <a:off x="1541520" y="11160"/>
            <a:ext cx="4022640" cy="5205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2770200" y="4935240"/>
            <a:ext cx="2015640" cy="1389240"/>
          </a:xfrm>
          <a:prstGeom prst="rect">
            <a:avLst/>
          </a:prstGeom>
          <a:solidFill>
            <a:srgbClr val="1a46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 Rounded MT Bold"/>
              </a:rPr>
              <a:t>Coho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5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Rounded MT Bold"/>
              </a:rPr>
              <a:t>Stu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3"/>
          <p:cNvSpPr/>
          <p:nvPr/>
        </p:nvSpPr>
        <p:spPr>
          <a:xfrm>
            <a:off x="457200" y="1752480"/>
            <a:ext cx="3809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he Ideal Cohort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3"/>
          <p:cNvSpPr/>
          <p:nvPr/>
        </p:nvSpPr>
        <p:spPr>
          <a:xfrm>
            <a:off x="914400" y="2666880"/>
            <a:ext cx="6400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n ideal cohort should b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Stabl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Cooperative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Committ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Well-inform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3"/>
          <p:cNvSpPr/>
          <p:nvPr/>
        </p:nvSpPr>
        <p:spPr>
          <a:xfrm>
            <a:off x="457200" y="1752480"/>
            <a:ext cx="28195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Advantages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62120" y="23623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No temporal ambiguity (suggests cause-effect relationshi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alculation of </a:t>
            </a:r>
            <a:r>
              <a:rPr b="1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incidence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Suitable for </a:t>
            </a:r>
            <a:r>
              <a:rPr b="1" lang="en-US" sz="28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rare expo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Several outcomes can be studied, after follow-up star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Times New Roman"/>
              </a:rPr>
              <a:t>Factors associated with selection cannot influence disease status and hence the resul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3"/>
          <p:cNvSpPr/>
          <p:nvPr/>
        </p:nvSpPr>
        <p:spPr>
          <a:xfrm>
            <a:off x="457200" y="1752480"/>
            <a:ext cx="65516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Disadvantages </a:t>
            </a:r>
            <a:r>
              <a:rPr b="1" lang="en-US" sz="32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762120" y="251460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Expens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ime-consum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May be impractic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Loss to follow-up may affect sample-siz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"/>
          <p:cNvPicPr/>
          <p:nvPr/>
        </p:nvPicPr>
        <p:blipFill>
          <a:blip r:embed="rId1"/>
          <a:srcRect l="15742" t="18395" r="15158" b="21341"/>
          <a:stretch/>
        </p:blipFill>
        <p:spPr>
          <a:xfrm>
            <a:off x="838080" y="1533600"/>
            <a:ext cx="7991640" cy="5400720"/>
          </a:xfrm>
          <a:prstGeom prst="rect">
            <a:avLst/>
          </a:prstGeom>
          <a:ln w="9360">
            <a:solidFill>
              <a:srgbClr val="66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04920" y="2695680"/>
            <a:ext cx="7696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 </a:t>
            </a:r>
            <a:r>
              <a:rPr b="0" lang="en-US" sz="2800" spc="-1" strike="noStrike" u="sng">
                <a:solidFill>
                  <a:srgbClr val="006699"/>
                </a:solidFill>
                <a:uFillTx/>
                <a:latin typeface="Arial Rounded MT Bold"/>
                <a:hlinkClick r:id="rId1"/>
              </a:rPr>
              <a:t>cohort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is a group of people who share a common characteristic or experienc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28600" y="3722760"/>
            <a:ext cx="853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ohort study:   A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observational,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  <a:ea typeface="Arial"/>
              </a:rPr>
              <a:t> analytic,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 longitudinal,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  <a:ea typeface="Arial"/>
              </a:rPr>
              <a:t>epidemiologic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tudy in which a particular outcome, such as death from a heart attack, is compared in groups of people who are alike in most ways but differ by a certain characteristic, such as smoking 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(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EXPOSURE</a:t>
            </a:r>
            <a:r>
              <a:rPr b="1" lang="en-US" sz="2800" spc="-1" strike="noStrike">
                <a:solidFill>
                  <a:srgbClr val="ffffff"/>
                </a:solidFill>
                <a:latin typeface="Arial Rounded MT Bold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554120" y="546840"/>
            <a:ext cx="2882880" cy="5205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1541520" y="11160"/>
            <a:ext cx="4022640" cy="52056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447920" y="9144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1554480" y="1371600"/>
            <a:ext cx="236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57200" y="1752480"/>
            <a:ext cx="2362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Defini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"/>
          <p:cNvSpPr/>
          <p:nvPr/>
        </p:nvSpPr>
        <p:spPr>
          <a:xfrm>
            <a:off x="457200" y="1752480"/>
            <a:ext cx="35272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haracteristics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685800" y="2327400"/>
            <a:ext cx="777240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A “cohort” is a group of people, referred to as “disease-free population” or “population at risk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A survey is first carried out to exclude prevalent cases from the coh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We know the exposure status, looking for the disease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A period of "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follow-up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“ is specified, for possible new cases' occur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Arial Rounded MT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457200" y="1752480"/>
            <a:ext cx="1905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ypes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06600" y="2438280"/>
            <a:ext cx="777240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wo types are recognized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P</a:t>
            </a:r>
            <a:r>
              <a:rPr b="1" lang="en-US" sz="3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rospective</a:t>
            </a:r>
            <a:r>
              <a:rPr b="0" lang="en-US" sz="3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(longitudinal): forward in time follow-up stud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Retrospective</a:t>
            </a:r>
            <a:r>
              <a:rPr b="1" lang="en-US" sz="3000" spc="-1" strike="noStrike">
                <a:solidFill>
                  <a:srgbClr val="00ff00"/>
                </a:solidFill>
                <a:latin typeface="Arial Rounded MT Bold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(historical): backward in time study (depends on records: medical / employment).  This is the type preferred under occupational setting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9"/>
          <p:cNvSpPr/>
          <p:nvPr/>
        </p:nvSpPr>
        <p:spPr>
          <a:xfrm>
            <a:off x="468360" y="2763720"/>
            <a:ext cx="7920000" cy="2951280"/>
          </a:xfrm>
          <a:prstGeom prst="rect">
            <a:avLst/>
          </a:prstGeom>
          <a:solidFill>
            <a:srgbClr val="0b1e45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38200" y="39164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 Rounded MT Bold"/>
              </a:rPr>
              <a:t>Pop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2743200" y="3688920"/>
            <a:ext cx="1295280" cy="100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Arial Rounded MT Bold"/>
              </a:rPr>
              <a:t>People without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683240" y="3390840"/>
            <a:ext cx="12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 Rounded MT Bold"/>
              </a:rPr>
              <a:t>Ex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4719600" y="4218480"/>
            <a:ext cx="12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 Rounded MT Bold"/>
              </a:rPr>
              <a:t>Not ex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6588000" y="31629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 Rounded MT Bold"/>
              </a:rPr>
              <a:t>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588000" y="36262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 Rounded MT Bold"/>
              </a:rPr>
              <a:t>No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6588000" y="4275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 Rounded MT Bold"/>
              </a:rPr>
              <a:t>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6588000" y="4815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 Rounded MT Bold"/>
              </a:rPr>
              <a:t>No 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12"/>
          <p:cNvSpPr/>
          <p:nvPr/>
        </p:nvSpPr>
        <p:spPr>
          <a:xfrm>
            <a:off x="2266920" y="398772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eaeae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4138560" y="3467160"/>
            <a:ext cx="360360" cy="28872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eaeae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4138560" y="4587840"/>
            <a:ext cx="360360" cy="289080"/>
          </a:xfrm>
          <a:prstGeom prst="rightArrow">
            <a:avLst>
              <a:gd name="adj1" fmla="val 50000"/>
              <a:gd name="adj2" fmla="val 31164"/>
            </a:avLst>
          </a:prstGeom>
          <a:solidFill>
            <a:srgbClr val="eaeae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5"/>
          <p:cNvSpPr/>
          <p:nvPr/>
        </p:nvSpPr>
        <p:spPr>
          <a:xfrm>
            <a:off x="6154560" y="3267000"/>
            <a:ext cx="360720" cy="289080"/>
          </a:xfrm>
          <a:prstGeom prst="rightArrow">
            <a:avLst>
              <a:gd name="adj1" fmla="val 50000"/>
              <a:gd name="adj2" fmla="val 31196"/>
            </a:avLst>
          </a:prstGeom>
          <a:solidFill>
            <a:srgbClr val="eaeae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16"/>
          <p:cNvSpPr/>
          <p:nvPr/>
        </p:nvSpPr>
        <p:spPr>
          <a:xfrm>
            <a:off x="6154560" y="3699000"/>
            <a:ext cx="360720" cy="288720"/>
          </a:xfrm>
          <a:prstGeom prst="rightArrow">
            <a:avLst>
              <a:gd name="adj1" fmla="val 50000"/>
              <a:gd name="adj2" fmla="val 31234"/>
            </a:avLst>
          </a:prstGeom>
          <a:solidFill>
            <a:srgbClr val="eaeae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7"/>
          <p:cNvSpPr/>
          <p:nvPr/>
        </p:nvSpPr>
        <p:spPr>
          <a:xfrm>
            <a:off x="6154560" y="4348080"/>
            <a:ext cx="360720" cy="289080"/>
          </a:xfrm>
          <a:prstGeom prst="rightArrow">
            <a:avLst>
              <a:gd name="adj1" fmla="val 50000"/>
              <a:gd name="adj2" fmla="val 31196"/>
            </a:avLst>
          </a:prstGeom>
          <a:solidFill>
            <a:srgbClr val="eaeae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8"/>
          <p:cNvSpPr/>
          <p:nvPr/>
        </p:nvSpPr>
        <p:spPr>
          <a:xfrm>
            <a:off x="6154560" y="4851360"/>
            <a:ext cx="360720" cy="289080"/>
          </a:xfrm>
          <a:prstGeom prst="rightArrow">
            <a:avLst>
              <a:gd name="adj1" fmla="val 50000"/>
              <a:gd name="adj2" fmla="val 31196"/>
            </a:avLst>
          </a:prstGeom>
          <a:solidFill>
            <a:srgbClr val="eaeaea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57200" y="1752480"/>
            <a:ext cx="26272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Design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ight Arrow 6"/>
          <p:cNvSpPr/>
          <p:nvPr/>
        </p:nvSpPr>
        <p:spPr>
          <a:xfrm>
            <a:off x="1657440" y="2789280"/>
            <a:ext cx="6191280" cy="216000"/>
          </a:xfrm>
          <a:prstGeom prst="rightArrow">
            <a:avLst>
              <a:gd name="adj1" fmla="val 28102"/>
              <a:gd name="adj2" fmla="val 126729"/>
            </a:avLst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ight Arrow 7"/>
          <p:cNvSpPr/>
          <p:nvPr/>
        </p:nvSpPr>
        <p:spPr>
          <a:xfrm>
            <a:off x="3197160" y="3378240"/>
            <a:ext cx="2592360" cy="144360"/>
          </a:xfrm>
          <a:prstGeom prst="rightArrow">
            <a:avLst>
              <a:gd name="adj1" fmla="val 28102"/>
              <a:gd name="adj2" fmla="val 126451"/>
            </a:avLst>
          </a:prstGeom>
          <a:solidFill>
            <a:srgbClr val="ff33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ight Arrow 8"/>
          <p:cNvSpPr/>
          <p:nvPr/>
        </p:nvSpPr>
        <p:spPr>
          <a:xfrm>
            <a:off x="3198960" y="4046400"/>
            <a:ext cx="2592360" cy="144720"/>
          </a:xfrm>
          <a:prstGeom prst="rightArrow">
            <a:avLst>
              <a:gd name="adj1" fmla="val 28102"/>
              <a:gd name="adj2" fmla="val 126137"/>
            </a:avLst>
          </a:prstGeom>
          <a:solidFill>
            <a:srgbClr val="ff33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438280" y="3251520"/>
            <a:ext cx="768960" cy="459720"/>
          </a:xfrm>
          <a:prstGeom prst="rect">
            <a:avLst/>
          </a:prstGeom>
          <a:solidFill>
            <a:srgbClr val="f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2497320" y="3907800"/>
            <a:ext cx="65016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594648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5971680" y="3218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852120" y="272412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5562720" y="24084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TCOME/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1908360" y="240840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30280" y="4689360"/>
            <a:ext cx="248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HORT STUDIES</a:t>
            </a:r>
            <a:br>
              <a:rPr sz="2000"/>
            </a:b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CLINICAL TRI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0"/>
          <p:cNvSpPr/>
          <p:nvPr/>
        </p:nvSpPr>
        <p:spPr>
          <a:xfrm rot="5400000">
            <a:off x="2498760" y="21038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563480" y="106668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Cohort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ight Arrow 2"/>
          <p:cNvSpPr/>
          <p:nvPr/>
        </p:nvSpPr>
        <p:spPr>
          <a:xfrm>
            <a:off x="1657440" y="2362320"/>
            <a:ext cx="6191280" cy="215640"/>
          </a:xfrm>
          <a:prstGeom prst="rightArrow">
            <a:avLst>
              <a:gd name="adj1" fmla="val 28102"/>
              <a:gd name="adj2" fmla="val 126941"/>
            </a:avLst>
          </a:prstGeom>
          <a:solidFill>
            <a:srgbClr val="00ff00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ight Arrow 10"/>
          <p:cNvSpPr/>
          <p:nvPr/>
        </p:nvSpPr>
        <p:spPr>
          <a:xfrm rot="10800000">
            <a:off x="3196800" y="3207960"/>
            <a:ext cx="2592360" cy="144360"/>
          </a:xfrm>
          <a:prstGeom prst="rightArrow">
            <a:avLst>
              <a:gd name="adj1" fmla="val 28102"/>
              <a:gd name="adj2" fmla="val 126451"/>
            </a:avLst>
          </a:prstGeom>
          <a:solidFill>
            <a:srgbClr val="ff33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120" bIns="-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ight Arrow 11"/>
          <p:cNvSpPr/>
          <p:nvPr/>
        </p:nvSpPr>
        <p:spPr>
          <a:xfrm rot="10800000">
            <a:off x="3198600" y="4046400"/>
            <a:ext cx="2592360" cy="144720"/>
          </a:xfrm>
          <a:prstGeom prst="rightArrow">
            <a:avLst>
              <a:gd name="adj1" fmla="val 28102"/>
              <a:gd name="adj2" fmla="val 126137"/>
            </a:avLst>
          </a:prstGeom>
          <a:solidFill>
            <a:srgbClr val="ff3399"/>
          </a:solidFill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6"/>
          <p:cNvSpPr/>
          <p:nvPr/>
        </p:nvSpPr>
        <p:spPr>
          <a:xfrm>
            <a:off x="5784840" y="3081600"/>
            <a:ext cx="768960" cy="459720"/>
          </a:xfrm>
          <a:prstGeom prst="rect">
            <a:avLst/>
          </a:prstGeom>
          <a:solidFill>
            <a:srgbClr val="f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5843880" y="3907800"/>
            <a:ext cx="65016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852120" y="229716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562720" y="1981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TCOME/DIS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1908360" y="198108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EXPO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3047040" y="4811760"/>
            <a:ext cx="337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SE-CONTROL 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7"/>
          <p:cNvSpPr/>
          <p:nvPr/>
        </p:nvSpPr>
        <p:spPr>
          <a:xfrm>
            <a:off x="282204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2847600" y="3048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 rot="5400000">
            <a:off x="5962680" y="1627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17"/>
          <p:cNvSpPr/>
          <p:nvPr/>
        </p:nvSpPr>
        <p:spPr>
          <a:xfrm>
            <a:off x="1531080" y="381600"/>
            <a:ext cx="1918080" cy="3682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STUDY DESIG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34"/>
          <p:cNvSpPr/>
          <p:nvPr/>
        </p:nvSpPr>
        <p:spPr>
          <a:xfrm>
            <a:off x="1514520" y="720"/>
            <a:ext cx="265860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Research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1371600" y="762120"/>
            <a:ext cx="5791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Observational / Analytical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Stud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4:45:47Z</dcterms:created>
  <dc:creator>Adrienne and John Eastwood</dc:creator>
  <dc:description/>
  <dc:language>en-US</dc:language>
  <cp:lastModifiedBy>mcst10</cp:lastModifiedBy>
  <cp:lastPrinted>2012-06-13T05:31:23Z</cp:lastPrinted>
  <dcterms:modified xsi:type="dcterms:W3CDTF">2013-09-30T07:02:46Z</dcterms:modified>
  <cp:revision>144</cp:revision>
  <dc:subject/>
  <dc:title>Abnormal Psychology</dc:title>
</cp:coreProperties>
</file>